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5F2-FD80-4D4A-BAF2-872B2CF2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8C7-F801-4CAD-8455-6C16609E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CF7-754B-4FD7-BA36-644892BC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3C4-FBD8-4603-B047-81BD4D99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F38-E43B-4490-9D40-AAB742B4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DCA-75D9-4C01-85B9-0A205D24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1E1-D576-46A3-8DB0-2C1B6A0A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9DC-0562-4783-A917-4FAA7913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A5F-4C6C-4A5D-BFB9-FD4EC58F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BEF-9CAD-4E50-940A-7B8B1F38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BBC-6389-4CB5-A51E-29EAC8D3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7BF-30EF-4D1A-9DF2-0CFA4529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CFAF-EBC0-4A5B-AEC9-9ED3DE10F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4003560" y="15969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305960" y="22669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609440" y="19641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4017960" y="3475080"/>
            <a:ext cx="10144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307760" y="415944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609800" y="385704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882880" y="782640"/>
            <a:ext cx="9590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459520" y="2150640"/>
            <a:ext cx="2459880" cy="656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391560" y="121896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15200" y="175248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274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7939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6084360" y="24922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6084360" y="24919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6084720" y="196920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32840" y="34704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27800" y="3992400"/>
            <a:ext cx="31932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34280" y="4502160"/>
            <a:ext cx="31896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6121080" y="3133440"/>
            <a:ext cx="1215000" cy="1585080"/>
          </a:xfrm>
          <a:prstGeom prst="bentConnector3">
            <a:avLst>
              <a:gd name="adj1" fmla="val 499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6121440" y="3133800"/>
            <a:ext cx="1208880" cy="1077120"/>
          </a:xfrm>
          <a:prstGeom prst="bentConnector3">
            <a:avLst>
              <a:gd name="adj1" fmla="val 49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6121080" y="3133440"/>
            <a:ext cx="1213560" cy="554760"/>
          </a:xfrm>
          <a:prstGeom prst="bentConnector3">
            <a:avLst>
              <a:gd name="adj1" fmla="val 498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014640" y="1643040"/>
            <a:ext cx="905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3305880" y="2270160"/>
            <a:ext cx="1024560" cy="70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3609360" y="1967400"/>
            <a:ext cx="383040" cy="66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4133880" y="225900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4170240" y="2900520"/>
            <a:ext cx="84636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030480" y="3521160"/>
            <a:ext cx="9050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2940840" y="4529520"/>
            <a:ext cx="1758240" cy="67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3609720" y="3860280"/>
            <a:ext cx="383400" cy="63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4119480" y="4137120"/>
            <a:ext cx="84636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4156200" y="551196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224080" y="828720"/>
            <a:ext cx="8557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1611000" y="2335680"/>
            <a:ext cx="2459880" cy="37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2542320" y="1404720"/>
            <a:ext cx="58140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6257880" y="175248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6253200" y="2274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6259680" y="2793960"/>
            <a:ext cx="31896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4979520" y="2492280"/>
            <a:ext cx="1281600" cy="518400"/>
          </a:xfrm>
          <a:prstGeom prst="bentConnector3">
            <a:avLst>
              <a:gd name="adj1" fmla="val 499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4979520" y="2491920"/>
            <a:ext cx="1275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4979520" y="1969200"/>
            <a:ext cx="1280520" cy="523080"/>
          </a:xfrm>
          <a:prstGeom prst="bentConnector3">
            <a:avLst>
              <a:gd name="adj1" fmla="val 49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6275520" y="34704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6270480" y="3992400"/>
            <a:ext cx="31932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6276960" y="4502160"/>
            <a:ext cx="31896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016240" y="3133440"/>
            <a:ext cx="1262520" cy="1585080"/>
          </a:xfrm>
          <a:prstGeom prst="bentConnector3">
            <a:avLst>
              <a:gd name="adj1" fmla="val 499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016600" y="3133800"/>
            <a:ext cx="1256400" cy="1077120"/>
          </a:xfrm>
          <a:prstGeom prst="bentConnector3">
            <a:avLst>
              <a:gd name="adj1" fmla="val 49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016240" y="3133440"/>
            <a:ext cx="1261080" cy="554760"/>
          </a:xfrm>
          <a:prstGeom prst="bentConnector3">
            <a:avLst>
              <a:gd name="adj1" fmla="val 498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5311800" y="522936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7388280" y="47228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7383600" y="5245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7389720" y="576432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6157440" y="546228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6157440" y="546228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6157800" y="493956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5400000">
            <a:off x="3790440" y="3205080"/>
            <a:ext cx="2960640" cy="995400"/>
          </a:xfrm>
          <a:custGeom>
            <a:avLst/>
            <a:gdLst>
              <a:gd name="textAreaLeft" fmla="*/ 0 w 2960640"/>
              <a:gd name="textAreaRight" fmla="*/ 2961000 w 2960640"/>
              <a:gd name="textAreaTop" fmla="*/ 0 h 995400"/>
              <a:gd name="textAreaBottom" fmla="*/ 995760 h 99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20600" y="3244680"/>
            <a:ext cx="7361280" cy="1244880"/>
          </a:xfrm>
          <a:prstGeom prst="rightArrow">
            <a:avLst>
              <a:gd name="adj1" fmla="val 50000"/>
              <a:gd name="adj2" fmla="val 825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6640" y="282096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79640" y="2000160"/>
            <a:ext cx="1030320" cy="528840"/>
          </a:xfrm>
          <a:prstGeom prst="wedgeRectCallout">
            <a:avLst>
              <a:gd name="adj1" fmla="val -47995"/>
              <a:gd name="adj2" fmla="val 1007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57640" y="2009880"/>
            <a:ext cx="1030320" cy="528480"/>
          </a:xfrm>
          <a:prstGeom prst="wedgeRectCallout">
            <a:avLst>
              <a:gd name="adj1" fmla="val -54620"/>
              <a:gd name="adj2" fmla="val 9864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V="1">
            <a:off x="1099800" y="1837440"/>
            <a:ext cx="7188840" cy="978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3" name=""/>
          <p:cNvSpPr/>
          <p:nvPr/>
        </p:nvSpPr>
        <p:spPr>
          <a:xfrm>
            <a:off x="4705200" y="1000080"/>
            <a:ext cx="1030320" cy="528840"/>
          </a:xfrm>
          <a:prstGeom prst="wedgeRectCallout">
            <a:avLst>
              <a:gd name="adj1" fmla="val -49231"/>
              <a:gd name="adj2" fmla="val 10585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8200" y="990720"/>
            <a:ext cx="1030320" cy="528480"/>
          </a:xfrm>
          <a:prstGeom prst="wedgeRectCallout">
            <a:avLst>
              <a:gd name="adj1" fmla="val -45379"/>
              <a:gd name="adj2" fmla="val 10765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51400" y="28414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2:22Z</dcterms:modified>
  <cp:revision>41</cp:revision>
  <dc:subject/>
  <dc:title>PowerPoint Presentation</dc:title>
</cp:coreProperties>
</file>